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2376-E694-4AF3-9ECB-54F7DC34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5625-69F3-4861-93FA-342BFD2A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92F9-2C07-467B-BE6F-DA03ED08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9B53-01A8-4CA5-9B89-53BB4902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237C-28DA-4981-BAFA-685136A2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37DC-A998-4420-8EC2-B44DC6D1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A517-7CB7-41C9-AD0C-EC30EC43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B0A8-45F1-4CD6-AD0A-17611106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73C5-BFA1-485F-A6D4-98063945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846E-5B52-463C-BCB7-7C4D9F18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DA49-51E2-4C98-B642-BDDCC9C4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7033-70AD-4F2F-A39B-4B34A675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FDA9-E17D-4B6F-A841-3BD7C033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C93D-17EF-488F-8589-618E049D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654A-37DD-4B30-91E4-B30E6854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47D9-E814-4971-B24D-4EB645B0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C52B-746E-47CA-9B12-F77983EC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BB13-CA58-458A-9E98-3E90EA06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228A-4C3F-42C3-BC42-1D1F8468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625F-BC99-4F58-A6D4-C9F16E5A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B448-ECDC-4168-861A-1DBABBB6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3543-1FE4-45CC-85FE-24291D48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00FA-7AAB-4FF7-A0A2-4C1CF760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DF6F-6270-4EB8-A08A-B1885F7A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33DC-50EB-40CC-9DE6-7C9900F8DD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4077-5871-4881-BE01-A882E3692C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rticles.latimes.com/2011/aug/19/business/la-fiw-global-markets-20110820" TargetMode="External"/><Relationship Id="rId2" Type="http://schemas.openxmlformats.org/officeDocument/2006/relationships/hyperlink" Target="http://berlinstockmarket.com/" TargetMode="External"/><Relationship Id="rId3" Type="http://schemas.openxmlformats.org/officeDocument/2006/relationships/hyperlink" Target="http://www.germanstockexchange.net/category/stocks/" TargetMode="External"/><Relationship Id="rId4" Type="http://schemas.openxmlformats.org/officeDocument/2006/relationships/hyperlink" Target="http://germanstockexchange.info/" TargetMode="Externa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man Stock Prices and Exchang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Issues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Emily P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: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: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ebsites Use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articles.latimes.com/2011/aug/19/business/la-fiw-global-markets-201108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berlinstockmarket.c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ttp://www.germanstockexchange.net/category/stocks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http://germanstockexchange.info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economywatch.com/stockexchanges/german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bloomberg.com/news/2012-03-26/european-stock-futures-littlee-changed-before-ifo-reportt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ulture Phot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00092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rman Stock Exchan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ire German Stock Exchange consists of eight stock exchanges situated in different parts of the countr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of these Stock Exchanges are enormously potent and significant to the world econom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ing the largest in Europe, the German economy is a close third behind those of the US &amp; Japa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rmany ranks among the wealthiest of nation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477120" y="5189400"/>
            <a:ext cx="266688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German Stock Exchange in Berli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ock Exchange in Berli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e Börse Berlin Stock Exchange located in Berlin, Germany has secondary stock listings for over 6,000 US secu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Most of them are normally listed on the NYSE, NASDAQ, AMEX, OTCBB, and pink sheet marke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 September 2007 Börse Berlin AG, operator of one of Germanys oldest stock exchanges, acquired control over London based Equiduct Systems in order to offer new state-of-the art stock exchange services to financial institutions trading in the European marke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rankfurt Stock Exchan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18184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kfurt Stock Exchan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ankfurt stock market is Germany's leading stock exchange, serving over 90% of the German market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 of the 300 market participants in the Frankfurt stock market, nearly 50% of these are from foreign countri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ankfurt stock market is part of the Deutsche Borse and is one of the world's first stock exchange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stocks trade-place,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nkfurt stock mark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third largest exchange in the worl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rman Stock Price Chang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German Stock Exchange has been doing extremely well over the past few ye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has earned Germany a position as one of the most wealthy countries in the wor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day’s data “shows welcome signs of resilience in the Germany economy, which comes as reassuring news” said Marco Valli, chief eurozone economist at UniCredit SpA in Mila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ragen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) What percentage of the German Market does the Frankfurt Stock Exchange ser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) 9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) 2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) 57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) How many market participants are there at the Frankfurt Stock Ex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) 4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) 3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) Some Nu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ntwort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)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)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7:39:22Z</dcterms:created>
  <dc:creator>SCSadmin</dc:creator>
  <dc:description/>
  <dc:language>en-US</dc:language>
  <cp:lastModifiedBy>SCSadmin</cp:lastModifiedBy>
  <dcterms:modified xsi:type="dcterms:W3CDTF">2012-04-04T17:33:40Z</dcterms:modified>
  <cp:revision>11</cp:revision>
  <dc:subject/>
  <dc:title>German Stock Prices Economic Issues</dc:title>
</cp:coreProperties>
</file>